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415-CDDE-43B0-AEDC-0573AACA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30C-769C-4468-9F15-48D04A2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520-1EA4-4622-ADB7-7176934F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A32-F6C7-409A-AB55-EC008680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B919-7622-4330-887F-7404AD6D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EDA9-409D-4084-9529-6F3A3F2C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C1F6-6BFD-4D33-BC3D-CD84B32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E44D-DD5F-4970-BAA1-BD0A8525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BED9-90E2-4732-8A6E-59D5360B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99B9-2732-4AD9-B2BF-0CA91E31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ACA6-08D1-4763-BA72-51967E2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C45-3A4B-44E6-96EE-3741A277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F424-AAAF-4380-8ABE-55D711A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AF13-8850-4B31-AA10-32F68452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5F2C-E336-4989-878F-AC5CC9F8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17B3-6AC2-4680-8EF9-7208938D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8AA4-F627-4CAA-B49D-187323BF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A1D-B23B-4989-A177-010680D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961-7FF8-46FE-B6E5-4B02377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FC6-9919-499B-8223-80B9BAC4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D58-D6A4-44F2-91CF-06E4525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C6D-73CA-43D7-8CF1-C1EB830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D08-7FBC-4713-B70C-2B95069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BFD-BFDA-4777-A556-EEE663C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1BF-DD6F-4988-9EF9-9A62A3A3925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CFB6-7CD0-47BE-90DD-0DBFE65EF20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15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тегория состояния как часть реч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286080" y="4929120"/>
            <a:ext cx="56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и ученики 7 класса школы №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Егор Земцов, Олег Игнатов, Даша Пе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000240" y="635796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ктывкар: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17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14280" y="1785960"/>
            <a:ext cx="5884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можно передать словами, эмоц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может передать внешний вид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природы можно тоже передать сло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 окружающей среды  можно описать словес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81160" y="19512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85840" y="1643040"/>
            <a:ext cx="885816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остоятельная часть речи, которая имеет общее грамматическое значение состояния живых существ, природы, окружающей среды или оценки состояния . Категория состояния отвечает на вопросы: как? каков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ых морфологических признаков у категории состояния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остоянным морфологическим признаком категории состояния является вр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ы времени образуются с помощью глаголов быть, становиться, дел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остоянным морфологическим признаком категории состояния являются также формы срав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редложении является сказуе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атические группы слов категории состоя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ушевное состояние человека- грустно, весело, жаль, странно и др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ическое состояние человека и животных- больно, голодно, дурно и др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ценку состояния человека- надо, нужно, можно, лень, необходимо и др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ояние природы и окружающей среды- сухо, светло, пасмурно, уютно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2508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42960" y="1428840"/>
            <a:ext cx="8358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нятие категории состояния в современном русском язык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Первым, кто выделил Категорию состояния в особую часть речи, был Л. В. Щерба. В работе «О частях речи в русском языке» ( 1928) он впервые употребил этот термин ,Категория состоя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его мнению, эта часть речи образована , во-первых, неизменяемыми словами с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ением состояния( нельзя, можно), которые являются сказуемыми в безличном предложении, во-вторых,  выступающие в роли сказуемого  в двусоставном предлож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ткие прилагательные и предложно- падежные формы со значением 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готов, гораз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В. Виноградов включал в категорию состояния: краткие прилагательные, утратившие свои полные формы (рад); краткие страдательные причастия( угнетен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лично -предикативные слова на –о- ( грустно, радостно); бывшие существительные ( лен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91960" y="96840"/>
            <a:ext cx="865044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071720" y="164304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Порядок морфологического разбора категории состо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071720" y="3000240"/>
            <a:ext cx="735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грамматическое значение- состояние или оценка состояния. Вопрос. Часть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ологические призна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остоянные: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Непостоянные: время, форма с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таксическая р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53880" y="96840"/>
            <a:ext cx="8528040" cy="1446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214200" y="2000160"/>
            <a:ext cx="892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Прощание было тягостно и печально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ягостно и печально- краткие качестве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ые  прилагательные изменяются по числам и родам, не склоняются по падеж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едложении являются сказуемыми.. Можно изменить: Прощание было  тягос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353436"/>
                </a:solidFill>
                <a:latin typeface="Times New Roman"/>
              </a:rPr>
              <a:t>Ы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печальн</a:t>
            </a:r>
            <a:r>
              <a:rPr b="0" lang="ru-RU" sz="1800" spc="-1" strike="noStrike">
                <a:solidFill>
                  <a:srgbClr val="353436"/>
                </a:solidFill>
                <a:latin typeface="Times New Roman"/>
              </a:rPr>
              <a:t>Ы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. Изменили тягостно и печально в полную форму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Мелодия звучала тягостно и печаль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( Тягостно и печально- наречие образа дейс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я, обозначают признак действия : звучала(как?) тягостно и печально..В дан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учае нет постоянных признаков, есть степень сравнения. Изменим: Мелодия зв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ла  тягостн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Е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ечальн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Е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Функция обстоятельства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На душе было тягостно и печаль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( На душе ( каково?) тягостно и печально. Бы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ягостно и печально( где?) на душе.( обстоятельство мес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данном предложении не может быть подлежащего, т.к. категория состоян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и существует сама по себе, не зависит от других слов в предложении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вляется сказуемым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46:38Z</dcterms:created>
  <dc:creator>Евгения</dc:creator>
  <dc:description/>
  <dc:language>en-US</dc:language>
  <cp:lastModifiedBy>Евгения</cp:lastModifiedBy>
  <dcterms:modified xsi:type="dcterms:W3CDTF">2010-04-20T19:50:12Z</dcterms:modified>
  <cp:revision>33</cp:revision>
  <dc:subject/>
  <dc:title>Творческая презентация. </dc:title>
</cp:coreProperties>
</file>